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FB9-E8D8-4C30-B41A-C90AC8EF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40A-2362-4D05-994D-D0CB76EE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789-CEDF-497F-9D02-6B58A2B3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D44-92A7-4ADD-8092-D1BD605D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D0EE0-D502-42CE-BF4A-CAF38EF8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A03A-797B-4CE1-B1C7-6C95BF2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8C641-5828-4A49-B7FB-219B82E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6925D-2466-4EF2-96AE-0436E43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1FBFC-ABE5-45A7-B1A9-0AD4DA54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B27F-C2DC-4C2A-97DD-5CC71DB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FA990-C007-4CD7-9E0B-5C8EC53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AB6-1634-4222-BDCE-59A32EA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2A85-0658-46CB-B624-4686111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93BC-A9F7-4E5D-B243-89CB6B6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61522-1579-47F4-903C-7BFBC521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907C2-BBFE-4A69-A6D5-1C001382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72A7-5F14-4935-A631-08506721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A9E-1548-40BE-988A-F67B9AE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3D8-B133-4537-9CAF-996BF5E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765-13A2-463D-8E98-4A9E5F86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1A0-23F9-49A6-98E8-7720B402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864-4338-4FD4-84FF-DCE34E7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D0C-B1D2-4E32-BB95-645340B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AF6-E981-4158-90BE-61EFA29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7CFE-DBE2-4170-92DF-D164B3CA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21A1-3BE0-4E24-8BF2-96C4817326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800"/>
                </a:solidFill>
                <a:latin typeface="Tahoma"/>
              </a:rPr>
              <a:t>Albrecht Dur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ethany Daugh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bles"/>
          <p:cNvPicPr/>
          <p:nvPr/>
        </p:nvPicPr>
        <p:blipFill>
          <a:blip r:embed="rId1"/>
          <a:stretch/>
        </p:blipFill>
        <p:spPr>
          <a:xfrm>
            <a:off x="152280" y="1517760"/>
            <a:ext cx="4184640" cy="508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f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May 21, 147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pril 6, 15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w up with 17 sib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w up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famous by selling his self portrait to a patron Frederick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ed to learn all that he could in the arts and mathema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st Famous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encolia I 15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elecoliaI"/>
          <p:cNvPicPr/>
          <p:nvPr/>
        </p:nvPicPr>
        <p:blipFill>
          <a:blip r:embed="rId1"/>
          <a:stretch/>
        </p:blipFill>
        <p:spPr>
          <a:xfrm>
            <a:off x="685800" y="1295280"/>
            <a:ext cx="418932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Wor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, Death, and the Devil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ur Horsemen of the Apocalyps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ying Hand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knight"/>
          <p:cNvPicPr/>
          <p:nvPr/>
        </p:nvPicPr>
        <p:blipFill>
          <a:blip r:embed="rId1"/>
          <a:stretch/>
        </p:blipFill>
        <p:spPr>
          <a:xfrm>
            <a:off x="4419720" y="2523960"/>
            <a:ext cx="3333600" cy="433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apo"/>
          <p:cNvPicPr/>
          <p:nvPr/>
        </p:nvPicPr>
        <p:blipFill>
          <a:blip r:embed="rId2"/>
          <a:stretch/>
        </p:blipFill>
        <p:spPr>
          <a:xfrm>
            <a:off x="2666880" y="533520"/>
            <a:ext cx="4127760" cy="582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ary"/>
          <p:cNvPicPr/>
          <p:nvPr/>
        </p:nvPicPr>
        <p:blipFill>
          <a:blip r:embed="rId3"/>
          <a:stretch/>
        </p:blipFill>
        <p:spPr>
          <a:xfrm>
            <a:off x="4191120" y="457200"/>
            <a:ext cx="4056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act on Renaiss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brecht Durer produced woodcuts and engravings that became influential. He also painted using realism and showing his subjects as their natural 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lso merged the Northern European with the Italian style, which affected the development all over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1:59:48Z</dcterms:created>
  <dc:creator>Kai</dc:creator>
  <dc:description/>
  <dc:language>en-US</dc:language>
  <cp:lastModifiedBy>admin</cp:lastModifiedBy>
  <dcterms:modified xsi:type="dcterms:W3CDTF">2011-04-20T14:37:23Z</dcterms:modified>
  <cp:revision>5</cp:revision>
  <dc:subject/>
  <dc:title>Albrecht Durer</dc:title>
</cp:coreProperties>
</file>